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1430000" cy="9144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7AC-1E9B-4C9C-84FE-D2417C65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D21-06D4-45D7-9D55-EA799BED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01FB-811C-4680-8BD1-C0B71D59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42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2680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57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42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42680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33C-97B4-4756-BB15-561BB572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F0B7-F3CB-47FB-9506-0F54C9FB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4E04-72B3-4EEC-A41C-9AA06CFC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1E5B-3013-46D3-865C-161D26BA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2AF9-E71D-45CD-B8A4-3883702D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A5ED-62BA-4955-8303-3A4375DD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97156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B6B5-8F28-4AED-9D10-475E8D73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4329-91C6-4805-B65B-2CF9ADEC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50B-591C-4E60-864B-CEF8A77D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E8AD-814B-4980-89C5-1D23B90C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BD89-C842-4751-ADD2-80E54922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FB48-140C-4D30-9693-D24C6290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56D2-8ED8-49BA-AA17-C5A6D33F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42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57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142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2680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1D2F-B0B7-47CD-A000-CD740456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2EB-BB9C-4F2C-BD89-056AA4EE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807-8C31-4FF8-8FF6-6851AB08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746-C1A8-4A87-A579-4D52752A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97156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3B4-1EAD-4A0B-9038-D67181AD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82D-C50B-4D88-8DAE-BA725D04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5BC-2588-4468-809B-30C36484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1D5-7324-4A81-926C-80CF9048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512360" y="1440"/>
            <a:ext cx="21927240" cy="18255240"/>
            <a:chOff x="-10512360" y="1440"/>
            <a:chExt cx="21927240" cy="18255240"/>
          </a:xfrm>
        </p:grpSpPr>
        <p:sp>
          <p:nvSpPr>
            <p:cNvPr id="1" name=""/>
            <p:cNvSpPr/>
            <p:nvPr/>
          </p:nvSpPr>
          <p:spPr>
            <a:xfrm>
              <a:off x="6734520" y="2113920"/>
              <a:ext cx="4680360" cy="701532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0512360" y="1440"/>
              <a:ext cx="21024720" cy="1825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5680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905280" y="8331120"/>
            <a:ext cx="3619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19108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3136-797A-4B56-8B59-2453A7D8CBEC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701640" y="1947240"/>
            <a:ext cx="21131280" cy="14392800"/>
            <a:chOff x="-9701640" y="1947240"/>
            <a:chExt cx="21131280" cy="14392800"/>
          </a:xfrm>
        </p:grpSpPr>
        <p:sp>
          <p:nvSpPr>
            <p:cNvPr id="45" name=""/>
            <p:cNvSpPr/>
            <p:nvPr/>
          </p:nvSpPr>
          <p:spPr>
            <a:xfrm>
              <a:off x="4089240" y="3612600"/>
              <a:ext cx="7340400" cy="553104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701640" y="1947240"/>
              <a:ext cx="16815240" cy="1439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7480" y="1015920"/>
            <a:ext cx="97153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5680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905280" y="8331120"/>
            <a:ext cx="3619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19108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3DA0-AB4B-4DD9-8961-D282EE2183FC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2110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Staatsaufba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6524640"/>
            <a:ext cx="7162920" cy="2097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indergärt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Grund- und Haupt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Wasser- und Wärmeversorg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Abwasserbeseitig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Feuerwe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chwimmbä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portplätze und -hal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6524640"/>
            <a:ext cx="2971800" cy="2097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GEMEIND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721400"/>
            <a:ext cx="7162920" cy="180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rankenhä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ozial- und Jugendhil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Abfallbeseitig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reisstraß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berufliche 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onder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721400"/>
            <a:ext cx="2971800" cy="180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LANDKREI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917800"/>
            <a:ext cx="7162920" cy="1803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Kult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Anstellung der Lehrer (Landesbeamte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Lehrplä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Hoch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Gerich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Polize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917800"/>
            <a:ext cx="2895480" cy="1803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LÄND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1701720"/>
            <a:ext cx="7162920" cy="12160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Auswärtige Angelegenheit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Verteidigungsaufgab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Bundesfernstraß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Zo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701720"/>
            <a:ext cx="2971800" cy="12160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B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295280"/>
            <a:ext cx="998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Tahoma"/>
              </a:rPr>
              <a:t>Zuständigkeiten (Beispiele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295280"/>
            <a:ext cx="4114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295280"/>
            <a:ext cx="100584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8621640"/>
            <a:ext cx="100584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295280"/>
            <a:ext cx="0" cy="7326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20520" y="1295280"/>
            <a:ext cx="0" cy="7326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70172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91780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472140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51348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9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e Behörde des Landkrei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3600" y="3124080"/>
            <a:ext cx="4762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Kommunaler Te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er Landkreis fördert das Wohl seiner Einwohner und unterstützt die kreisangehörigen Gemeinden in der Erfüllung ihrer Aufgaben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Rechtsgrundlage: §§ 1 und 2 der LK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286000"/>
            <a:ext cx="105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ff33"/>
                </a:solidFill>
                <a:latin typeface="Tahoma"/>
              </a:rPr>
              <a:t>Das Landratsamt ist eine Körperschaft des öffentlichen Rechts, die intern aus zwei Teilen besteh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86680" y="3124080"/>
            <a:ext cx="4762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Staatlicher Te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as Landratsamt als untere Verwaltungsbehörde ist auch eine staatliche Behör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taatliche Behörden (Ministerien oder Regierungspräsidium) haben staatliche Aufgaben (z.B. Rechtsaufsicht über die Behörd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Bei Aufgaben des Bundes kommt der Bund für die entstandenen Kosten auf. Rechtsgrundlage: Landesverwaltungsgeset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7160" y="152280"/>
            <a:ext cx="97156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Aufgaben des Landratsam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496960" y="2286000"/>
          <a:ext cx="65883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6960" y="2286000"/>
                    <a:ext cx="65883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814400" y="2355840"/>
          <a:ext cx="7669440" cy="60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2355840"/>
                    <a:ext cx="766944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So funktioniert der Landkre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29240" y="27273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Vorsit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9880" y="23623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äh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1520" y="31845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Vorsit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72120" y="295596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leit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3124080"/>
            <a:ext cx="761760" cy="533520"/>
          </a:xfrm>
          <a:custGeom>
            <a:avLst/>
            <a:gdLst>
              <a:gd name="textAreaLeft" fmla="*/ 0 w 761760"/>
              <a:gd name="textAreaRight" fmla="*/ 762120 w 7617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34290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259092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334120" y="3184560"/>
            <a:ext cx="457200" cy="457200"/>
          </a:xfrm>
          <a:custGeom>
            <a:avLst/>
            <a:gdLst>
              <a:gd name="textAreaLeft" fmla="*/ 152280 w 457200"/>
              <a:gd name="textAreaRight" fmla="*/ 326520 w 457200"/>
              <a:gd name="textAreaTop" fmla="*/ 283320 h 457200"/>
              <a:gd name="textAreaBottom" fmla="*/ 3268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9542"/>
                </a:moveTo>
                <a:lnTo>
                  <a:pt x="13371" y="19542"/>
                </a:lnTo>
                <a:lnTo>
                  <a:pt x="13371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5429" y="72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955960"/>
            <a:ext cx="1524240" cy="152280"/>
          </a:xfrm>
          <a:prstGeom prst="leftArrow">
            <a:avLst>
              <a:gd name="adj1" fmla="val 50000"/>
              <a:gd name="adj2" fmla="val 250236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7314840" y="3009960"/>
            <a:ext cx="723960" cy="723960"/>
          </a:xfrm>
          <a:custGeom>
            <a:avLst/>
            <a:gdLst>
              <a:gd name="textAreaLeft" fmla="*/ 0 w 723960"/>
              <a:gd name="textAreaRight" fmla="*/ 724320 w 72396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66880" y="34290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äh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85440" y="31845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äh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95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45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95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45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95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45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95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45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95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45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95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45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95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18:54:09Z</dcterms:created>
  <dc:creator>Waldemar Friedrich</dc:creator>
  <dc:description/>
  <dc:language>en-US</dc:language>
  <cp:lastModifiedBy>Hörstmann</cp:lastModifiedBy>
  <cp:lastPrinted>2004-11-19T10:17:27Z</cp:lastPrinted>
  <dcterms:modified xsi:type="dcterms:W3CDTF">2007-01-21T11:57:54Z</dcterms:modified>
  <cp:revision>110</cp:revision>
  <dc:subject/>
  <dc:title>Das Landratsamt Enzkreis</dc:title>
</cp:coreProperties>
</file>